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3CDF-F290-4F3C-B638-8EE3EF2408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C012-21D0-4EBD-9ED5-4A19552936C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herald is the person who blows the trumpet to tell us that the King is com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n lots of trumpets sound together as in this picture, it is called a fanfare. A fanfare describes the celebration surrounding a special event, like the coming of the queen or 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ever there wasn't much fanfare surrounding the coming of Jesus. There were no trumpets and no one shouting, "God save the king!" The Bible tells us that there was only a man named John who was like a voice calling out in the desert saying, "Prepare the way for the Lord.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hn the Baptist was the herald for Jes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 was telling us how to prepare for the king – not an earthly king with a crown, jewels and soldiers, but the king of our he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5E42-8B5E-4DDF-8FCC-4525C141C8C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7C02-B5A2-4A2C-A080-9185A197844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hn the Baptist said we should get ready for Jesu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rough pr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y giving up being sel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y helping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8441-29CD-4EEF-944D-EEBFFEAF226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hn the Baptist asked us to leave the old ways with twists and turns behind and to make our lives go straight to G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ld ways of thinking about ourselves all the time and forgetting to have time to talk to G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ke a little time at the end of the day to thank God for everything you hav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tell him about what you did we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tell Him what you could do better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ask Him for help to put Him first in your l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you do this you will find your life filled with jo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A268-4D92-4B56-887F-96A321D2C97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hn the Baptist asked us to prepare for Jesus to be the king of our hearts by reaching out to other people and putting them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we put others before ourselves so that they are the important ones, not 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we fill up hearts we have broken by not loving each oth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other ways can you think of to avoid being self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B09E-88F9-4EA3-8DBD-521A09C5E15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hn the Baptist called out to stop the old ways of thinking about ourselves all the time and forgetting about other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y be we should fill in our time for other people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lping at hom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king those who are lonely to join in our gam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pecting those who are not as lucky as we are. Maybe someone else does not have all the gifts we do; it does not make us more spec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d you decide last week how to help oth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ve you started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DDD5-FFC3-4326-A6C2-7DBBEC13A97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lit the first candle as a sign of wai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w we light the second candle to show we are getting ready for Jesus’ new life in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E89D-56AB-435D-BE09-42451EFF6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7A69-8A50-4BFB-8ADC-7DB81669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1DA1-684E-41AB-BB0F-99AE28C94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3D47-8634-4889-8020-047ED1CE2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3EFF-7F82-405D-A8DC-18DFFF3C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D085-658E-40C1-99E8-1AE7C945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D79F-9689-4533-8DEA-8421092A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0BD6-EBB2-4FC1-866D-170299FF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4627-E17A-41CA-B695-8A44CE3E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2E81-B715-43CC-8147-CA888E08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01A5-B4BF-493E-9F8F-6596B11A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5525-EA19-41F7-9594-2CBC427E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8B72-9743-40A6-80F1-4601E1344BEE}" type="slidenum">
              <a:rPr b="0" lang="en-GB" sz="1600" spc="-1" strike="noStrike">
                <a:solidFill>
                  <a:srgbClr val="eeece1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en.fotolia.com/id/1195673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en.fotolia.com/id/4858015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en.fotolia.com/id/17338176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0" y="968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7200" spc="-1" strike="noStrike">
                <a:solidFill>
                  <a:srgbClr val="ffffff"/>
                </a:solidFill>
                <a:latin typeface="Times New Roman"/>
              </a:rPr>
              <a:t>Joy of Salvation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214200" y="5589720"/>
            <a:ext cx="86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ffffff"/>
                </a:solidFill>
                <a:latin typeface="Times New Roman"/>
              </a:rPr>
              <a:t>Second Sunday of Advent Year 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8" descr="Fotolia_14225155_XS.jpeg"/>
          <p:cNvPicPr/>
          <p:nvPr/>
        </p:nvPicPr>
        <p:blipFill>
          <a:blip r:embed="rId1"/>
          <a:stretch/>
        </p:blipFill>
        <p:spPr>
          <a:xfrm>
            <a:off x="1785960" y="1714680"/>
            <a:ext cx="5384880" cy="35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-217440" y="0"/>
            <a:ext cx="93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7200" spc="-1" strike="noStrike">
                <a:solidFill>
                  <a:srgbClr val="ffffff"/>
                </a:solidFill>
                <a:latin typeface="Times New Roman"/>
              </a:rPr>
              <a:t>Joy of Salvation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6" descr="Fotolia_14225155_XS.jpeg"/>
          <p:cNvPicPr/>
          <p:nvPr/>
        </p:nvPicPr>
        <p:blipFill>
          <a:blip r:embed="rId1"/>
          <a:stretch/>
        </p:blipFill>
        <p:spPr>
          <a:xfrm>
            <a:off x="1785960" y="1714680"/>
            <a:ext cx="5384880" cy="35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900000" y="836640"/>
            <a:ext cx="755964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WA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We will learn that we are joyful when we welcome Jesus into our hear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WI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We will know if we have been successful if we can talk about some of the ways in which Jesus brings us jo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" descr="MCj04110310000[1]"/>
          <p:cNvPicPr/>
          <p:nvPr/>
        </p:nvPicPr>
        <p:blipFill>
          <a:blip r:embed="rId1"/>
          <a:stretch/>
        </p:blipFill>
        <p:spPr>
          <a:xfrm>
            <a:off x="7380360" y="476280"/>
            <a:ext cx="1482480" cy="15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Fotolia_4964695_XS.jpeg"/>
          <p:cNvPicPr/>
          <p:nvPr/>
        </p:nvPicPr>
        <p:blipFill>
          <a:blip r:embed="rId1"/>
          <a:stretch/>
        </p:blipFill>
        <p:spPr>
          <a:xfrm>
            <a:off x="1785960" y="500040"/>
            <a:ext cx="5711760" cy="571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8"/>
          <p:cNvSpPr/>
          <p:nvPr/>
        </p:nvSpPr>
        <p:spPr>
          <a:xfrm>
            <a:off x="0" y="52862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Prepare a  way for the Lor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ake his paths straight . . 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0" y="69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A voice cries in the wildernes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7" descr="Fotolia_13809616_XS.jpeg"/>
          <p:cNvPicPr/>
          <p:nvPr/>
        </p:nvPicPr>
        <p:blipFill>
          <a:blip r:embed="rId1"/>
          <a:stretch/>
        </p:blipFill>
        <p:spPr>
          <a:xfrm>
            <a:off x="714240" y="1928880"/>
            <a:ext cx="7851960" cy="29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826920" y="5300640"/>
            <a:ext cx="74170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nd all mankind shall see the salvation of G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Times New Roman"/>
              </a:rPr>
              <a:t>This is the Gospel of the Lord</a:t>
            </a:r>
            <a:br>
              <a:rPr sz="1800"/>
            </a:br>
            <a:r>
              <a:rPr b="0" i="1" lang="en-GB" sz="1800" spc="-1" strike="noStrike">
                <a:solidFill>
                  <a:srgbClr val="ffffff"/>
                </a:solidFill>
                <a:latin typeface="Times New Roman"/>
              </a:rPr>
              <a:t>Praise to you, Lord Jesus Chr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6" descr="Fotolia_4945175_XS.jpeg"/>
          <p:cNvPicPr/>
          <p:nvPr/>
        </p:nvPicPr>
        <p:blipFill>
          <a:blip r:embed="rId1"/>
          <a:stretch/>
        </p:blipFill>
        <p:spPr>
          <a:xfrm>
            <a:off x="1643040" y="642960"/>
            <a:ext cx="60800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WordArt 4"/>
          <p:cNvGrpSpPr/>
          <p:nvPr/>
        </p:nvGrpSpPr>
        <p:grpSpPr>
          <a:xfrm>
            <a:off x="2249640" y="317520"/>
            <a:ext cx="4578120" cy="1146240"/>
            <a:chOff x="2249640" y="317520"/>
            <a:chExt cx="4578120" cy="1146240"/>
          </a:xfrm>
        </p:grpSpPr>
        <p:pic>
          <p:nvPicPr>
            <p:cNvPr id="60" name="WordArt 4" descr=""/>
            <p:cNvPicPr/>
            <p:nvPr/>
          </p:nvPicPr>
          <p:blipFill>
            <a:blip r:embed="rId1"/>
            <a:stretch/>
          </p:blipFill>
          <p:spPr>
            <a:xfrm>
              <a:off x="2249640" y="317520"/>
              <a:ext cx="457812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2268360" y="333360"/>
              <a:ext cx="4546800" cy="11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b2b2b2"/>
                  </a:solidFill>
                  <a:latin typeface="Comic Sans MS"/>
                </a:rPr>
                <a:t>Prayer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2" name="Picture 5" descr="young boy praying vertica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87280" y="1700280"/>
            <a:ext cx="3105360" cy="4680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8"/>
          <p:cNvSpPr txBox="1"/>
          <p:nvPr/>
        </p:nvSpPr>
        <p:spPr>
          <a:xfrm>
            <a:off x="5435640" y="2133720"/>
            <a:ext cx="3068640" cy="359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alk to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Jesu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s you talk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o your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est friend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WordArt 4"/>
          <p:cNvGrpSpPr/>
          <p:nvPr/>
        </p:nvGrpSpPr>
        <p:grpSpPr>
          <a:xfrm>
            <a:off x="450720" y="317520"/>
            <a:ext cx="8259840" cy="1249200"/>
            <a:chOff x="450720" y="317520"/>
            <a:chExt cx="8259840" cy="1249200"/>
          </a:xfrm>
        </p:grpSpPr>
        <p:pic>
          <p:nvPicPr>
            <p:cNvPr id="65" name="WordArt 4" descr=""/>
            <p:cNvPicPr/>
            <p:nvPr/>
          </p:nvPicPr>
          <p:blipFill>
            <a:blip r:embed="rId1"/>
            <a:stretch/>
          </p:blipFill>
          <p:spPr>
            <a:xfrm>
              <a:off x="450720" y="317520"/>
              <a:ext cx="825984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468360" y="333360"/>
              <a:ext cx="82296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b2b2b2"/>
                  </a:solidFill>
                  <a:latin typeface="Comic Sans MS"/>
                </a:rPr>
                <a:t>Give up being selfish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7" name="Picture 10" descr="block letters - 3d concept illustrat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42920" y="2924280"/>
            <a:ext cx="3529080" cy="2663640"/>
          </a:xfrm>
          <a:prstGeom prst="rect">
            <a:avLst/>
          </a:prstGeom>
          <a:ln w="0">
            <a:noFill/>
          </a:ln>
        </p:spPr>
      </p:pic>
      <p:sp>
        <p:nvSpPr>
          <p:cNvPr id="68" name="Line 11"/>
          <p:cNvSpPr/>
          <p:nvPr/>
        </p:nvSpPr>
        <p:spPr>
          <a:xfrm>
            <a:off x="611280" y="2637000"/>
            <a:ext cx="4537080" cy="3097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12"/>
          <p:cNvSpPr/>
          <p:nvPr/>
        </p:nvSpPr>
        <p:spPr>
          <a:xfrm flipH="1">
            <a:off x="684360" y="2637000"/>
            <a:ext cx="4032000" cy="3024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14" descr="ハートのプレゼント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08720" y="1916280"/>
            <a:ext cx="2895480" cy="43225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5"/>
          <p:cNvSpPr/>
          <p:nvPr/>
        </p:nvSpPr>
        <p:spPr>
          <a:xfrm>
            <a:off x="5796000" y="4508640"/>
            <a:ext cx="18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66ff33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000"/>
                            </p:stCondLst>
                            <p:childTnLst>
                              <p:par>
                                <p:cTn id="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WordArt 4"/>
          <p:cNvGrpSpPr/>
          <p:nvPr/>
        </p:nvGrpSpPr>
        <p:grpSpPr>
          <a:xfrm>
            <a:off x="1311120" y="384120"/>
            <a:ext cx="6669360" cy="1079640"/>
            <a:chOff x="1311120" y="384120"/>
            <a:chExt cx="6669360" cy="1079640"/>
          </a:xfrm>
        </p:grpSpPr>
        <p:pic>
          <p:nvPicPr>
            <p:cNvPr id="73" name="WordArt 4" descr=""/>
            <p:cNvPicPr/>
            <p:nvPr/>
          </p:nvPicPr>
          <p:blipFill>
            <a:blip r:embed="rId1"/>
            <a:stretch/>
          </p:blipFill>
          <p:spPr>
            <a:xfrm>
              <a:off x="1311120" y="384120"/>
              <a:ext cx="6669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1332000" y="404640"/>
              <a:ext cx="6635520" cy="10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b2b2b2"/>
                  </a:solidFill>
                  <a:latin typeface="Comic Sans MS"/>
                </a:rPr>
                <a:t>Help others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" name="WordArt 21"/>
          <p:cNvSpPr txBox="1"/>
          <p:nvPr/>
        </p:nvSpPr>
        <p:spPr>
          <a:xfrm>
            <a:off x="336600" y="3782880"/>
            <a:ext cx="2663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ith work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571680" y="6453360"/>
            <a:ext cx="259236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t pla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7" name="WordArt 23"/>
          <p:cNvSpPr txBox="1"/>
          <p:nvPr/>
        </p:nvSpPr>
        <p:spPr>
          <a:xfrm>
            <a:off x="6588000" y="5373720"/>
            <a:ext cx="2028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t hom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" name="WordArt 24"/>
          <p:cNvSpPr txBox="1"/>
          <p:nvPr/>
        </p:nvSpPr>
        <p:spPr>
          <a:xfrm>
            <a:off x="3786120" y="4714920"/>
            <a:ext cx="2228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y giving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9" name="Picture 16" descr="Fotolia_12334886_XS.jpeg"/>
          <p:cNvPicPr/>
          <p:nvPr/>
        </p:nvPicPr>
        <p:blipFill>
          <a:blip r:embed="rId2"/>
          <a:stretch/>
        </p:blipFill>
        <p:spPr>
          <a:xfrm>
            <a:off x="55440" y="1571760"/>
            <a:ext cx="3230640" cy="2155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7" descr="Fotolia_8651734_XS.jpeg"/>
          <p:cNvPicPr/>
          <p:nvPr/>
        </p:nvPicPr>
        <p:blipFill>
          <a:blip r:embed="rId3"/>
          <a:stretch/>
        </p:blipFill>
        <p:spPr>
          <a:xfrm>
            <a:off x="285840" y="4273560"/>
            <a:ext cx="3230640" cy="2155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8" descr="Fotolia_46738_XS.jpeg"/>
          <p:cNvPicPr/>
          <p:nvPr/>
        </p:nvPicPr>
        <p:blipFill>
          <a:blip r:embed="rId4"/>
          <a:stretch/>
        </p:blipFill>
        <p:spPr>
          <a:xfrm>
            <a:off x="3929040" y="2143080"/>
            <a:ext cx="1905120" cy="254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9" descr="Fotolia_5256781_XS.jpeg"/>
          <p:cNvPicPr/>
          <p:nvPr/>
        </p:nvPicPr>
        <p:blipFill>
          <a:blip r:embed="rId5"/>
          <a:stretch/>
        </p:blipFill>
        <p:spPr>
          <a:xfrm>
            <a:off x="6262560" y="1500120"/>
            <a:ext cx="2524320" cy="375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0" descr="Advent Candles2"/>
          <p:cNvPicPr/>
          <p:nvPr/>
        </p:nvPicPr>
        <p:blipFill>
          <a:blip r:embed="rId1"/>
          <a:stretch/>
        </p:blipFill>
        <p:spPr>
          <a:xfrm>
            <a:off x="1476360" y="907920"/>
            <a:ext cx="6192720" cy="5207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21:19:08Z</dcterms:created>
  <dc:creator>Andrew Fawcett</dc:creator>
  <dc:description/>
  <dc:language>en-US</dc:language>
  <cp:lastModifiedBy>Michael McGrath</cp:lastModifiedBy>
  <dcterms:modified xsi:type="dcterms:W3CDTF">2009-11-30T17:43:58Z</dcterms:modified>
  <cp:revision>53</cp:revision>
  <dc:subject/>
  <dc:title>Slide 1</dc:title>
</cp:coreProperties>
</file>