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C9FE-2918-4DE7-8C98-2181830FF1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1C01-5C13-4291-B78B-9B616604F8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DCBE-209D-41BB-B9A6-96594ADC599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irst week of Advent, that special time in which we prepare to celebrate the birth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ason of Advent, we use the Advent Wreath as a special sig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inds us, by its evergreen circle, of God’s endless love for us and God’s life in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hree purple candles remind us of our waiting, longing and preparation for Jesus’ coming at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ink candle reminds us of the joy and hope that will replace our longing, as we celebrate the birth of Jesus at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hite candle is the sign of Jesus’ birth and the new life that comes to us through his death and resu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ght the first candle of the Advent wreath as a sign of wa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181A-8EF7-4490-9555-6D678F0FCC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C08D-FB05-4177-BB56-DBFD8963FA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0D5B-DB76-45B5-8FCA-82A3AB0196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 we are celebrating the first Sunday of Advent, the period of preparation for the wonderful feast of Christ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is beginning to make preparations. We see Christmas posters and displays of presents in the shops and we wonder what we would like to have and what we can g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ink about who are we giving to. We want to give to our families and friends and we are planning to treat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be telling your parents about all the toys and gifts you’d like to receive and what you would like to give to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have to think about how we can treat Jesus, because it is His birthday we are celeb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listen to what Jesus tells us in this Sunday’s Advent gos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89E1-714B-4AB6-AD02-34EE9B539F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oday’s Gospel, Jesus tells us that we must watch that we do not get sucked into situations in which we will find ourselves in a sort of prison, stuck because we cannot get out of our bad hab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haps we find it hard not to be greedy. Maybe we eat too many sweets. Do we share what we ha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we are lazy. We do not do our homework or help at home when we are ask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we do not care for others as we should, perhaps we rush around and do not give time for old people or those who find it hard to mo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times when hurtful things are said about someone or when you may draw someone an unkind loo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hings can get you trapped into being selfish, thinking about only yourself and forgetting to share or say sorr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listen to how Jesus tells us to watch out so we can be free of being trap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3B61-95EF-46AC-B3DD-F51EDA5CC77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eople in the world are not as lucky as we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not free from fear. They may live in a war torn country like Afghanistan. Perhaps people are forced to run and hide from those who want to control them and take things from them, as in Zimbab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n our country, some children are not loved; they may be neglected and ab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be there are families who are sad because people in the family are lonely or may suffer from sickness. They may be trapped by addiction to drugs or alcohol or they may be trapped by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 us think quietly about one area or situation where God’s love and comfort are needed – where people could be freed from fear. Can you say a prayer to Jesus in your heart for someone who needs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ways in which we can make sure we give Jesus our gifts this Christm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rough pr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y giving up being selfis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y help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5B20-299A-4EAC-BBD2-F92AC1509FF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pray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lking to God in our he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ighting a candle with our family to pray at h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ding a story about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oing to Ma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56E5-2ADD-4B73-A52B-B8AA1FE33E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give 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our time to help other people in the playground who are al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V to help others at h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cket money to help the po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an you think of anything else we can giv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quietly to your shoulder partner for a minute or two. What will happen to this boy if he is so greedy that he does not share these swe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79FC-69D7-4979-945D-A0C26F91EE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help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ildren in school, perhaps those who are lonely or young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home – do something straight away when asked: homework, do the dishes, switch off the TV and get ready for b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nk of an Enterprise Activity to raise money for those in need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you make a difference to help others to be free from 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you talk about this at a Pupil Council meeting and agree on something we can do together for the next four weeks before Christm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6421F-D749-4BC1-A871-10A7D5BBD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4E3E-8B8A-4405-8E1A-33B75952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391C7-0075-444A-8859-00F992011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B794C-E5FA-4575-AF16-F2512F000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2F0DC-92F5-4D22-BB6F-573FA6A43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D5CE2-9DAC-4120-AC61-2C8924BF8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BB5E3-B237-409B-9248-492E99A14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F74B7-AAA6-4FC2-BB76-50478B638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94EC-B575-4D42-AB29-12F7AE96C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B5357-7F01-43AF-8E86-E5DA761D3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EB857-3806-45EE-8C27-475D1D225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FB1B-0770-4870-B67A-B647F5315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D282-5D8C-4EF0-911D-C8813AAD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121D1-D107-4EF8-BE89-D96C3CA56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5369E-004F-43E2-8EEB-FD6C84390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81312-967E-4CA6-AA2B-A1791737B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3F583-FBDF-4E9D-A3D9-FA8A59E3C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B681-3C17-43FD-9575-C60A1814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4998-337F-4010-AB4E-FF9F82CC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3716A-6844-4A38-9EAE-A0F62C12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F20B-A2F2-4970-8BAF-69BB976AE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B1B8-D5C4-47DD-8B8D-A2D484E7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58B7-9D35-443C-BFD5-5BFB63E2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9898-5F12-4E71-A5C8-8AC488EF0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eece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6812-1BAE-4B92-B6EB-65E50E0A8EB1}" type="slidenum">
              <a:rPr b="0" lang="en-GB" sz="1600" spc="-1" strike="noStrike">
                <a:solidFill>
                  <a:srgbClr val="eeece1"/>
                </a:solidFill>
                <a:latin typeface="Constantia"/>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EAAE-C702-4BD6-8670-7966AB760F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6" name="Text Placeholder 8"/>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level</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fotolia.com/id/15851032"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6"/>
          <p:cNvSpPr/>
          <p:nvPr/>
        </p:nvSpPr>
        <p:spPr>
          <a:xfrm>
            <a:off x="1714680" y="0"/>
            <a:ext cx="590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3300"/>
                </a:solidFill>
                <a:latin typeface="Times New Roman"/>
              </a:rPr>
              <a:t>Freedom from fear!</a:t>
            </a:r>
            <a:endParaRPr b="0" lang="en-US" sz="5400" spc="-1" strike="noStrike">
              <a:solidFill>
                <a:srgbClr val="ffffff"/>
              </a:solidFill>
              <a:latin typeface="Arial"/>
            </a:endParaRPr>
          </a:p>
        </p:txBody>
      </p:sp>
      <p:sp>
        <p:nvSpPr>
          <p:cNvPr id="91" name="Rectangle 7"/>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3300"/>
                </a:solidFill>
                <a:latin typeface="Times New Roman"/>
              </a:rPr>
              <a:t>First Sunday of Advent Year C</a:t>
            </a:r>
            <a:endParaRPr b="0" lang="en-US" sz="36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0" descr="Advent_Candles"/>
          <p:cNvPicPr/>
          <p:nvPr/>
        </p:nvPicPr>
        <p:blipFill>
          <a:blip r:embed="rId1"/>
          <a:stretch/>
        </p:blipFill>
        <p:spPr>
          <a:xfrm>
            <a:off x="1428840" y="785880"/>
            <a:ext cx="6361200" cy="534816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6"/>
          <p:cNvSpPr/>
          <p:nvPr/>
        </p:nvSpPr>
        <p:spPr>
          <a:xfrm>
            <a:off x="1714680" y="0"/>
            <a:ext cx="590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3300"/>
                </a:solidFill>
                <a:latin typeface="Times New Roman"/>
              </a:rPr>
              <a:t>Freedom from fear!</a:t>
            </a:r>
            <a:endParaRPr b="0" lang="en-US" sz="5400" spc="-1" strike="noStrike">
              <a:solidFill>
                <a:srgbClr val="ffffff"/>
              </a:solidFill>
              <a:latin typeface="Arial"/>
            </a:endParaRPr>
          </a:p>
        </p:txBody>
      </p:sp>
      <p:sp>
        <p:nvSpPr>
          <p:cNvPr id="114" name="Rectangle 7"/>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3300"/>
                </a:solidFill>
                <a:latin typeface="Times New Roman"/>
              </a:rPr>
              <a:t>First Sunday of Advent Year C</a:t>
            </a:r>
            <a:endParaRPr b="0" lang="en-US" sz="36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5"/>
          <p:cNvSpPr/>
          <p:nvPr/>
        </p:nvSpPr>
        <p:spPr>
          <a:xfrm>
            <a:off x="642960" y="0"/>
            <a:ext cx="7559640" cy="6495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AL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learn about why Advent is an important time of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reparation for Christm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learn what Jesus meant when he sai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ffffff"/>
                </a:solidFill>
                <a:latin typeface="Comic Sans MS"/>
              </a:rPr>
              <a:t>your freedom is near at hand!”</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ILF</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know if we have been successful if we can recall why Advent is an important time of preparation for Christma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We will be able to give one way in which we can be free of fea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3" name="Picture 6" descr="MCj04110310000[1]"/>
          <p:cNvPicPr/>
          <p:nvPr/>
        </p:nvPicPr>
        <p:blipFill>
          <a:blip r:embed="rId1"/>
          <a:stretch/>
        </p:blipFill>
        <p:spPr>
          <a:xfrm>
            <a:off x="7380360" y="476280"/>
            <a:ext cx="1482480" cy="150660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Fotolia_6665229_XS.jpg"/>
          <p:cNvPicPr/>
          <p:nvPr/>
        </p:nvPicPr>
        <p:blipFill>
          <a:blip r:embed="rId1"/>
          <a:stretch/>
        </p:blipFill>
        <p:spPr>
          <a:xfrm>
            <a:off x="857160" y="571680"/>
            <a:ext cx="7620120" cy="571500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
          <p:cNvSpPr/>
          <p:nvPr/>
        </p:nvSpPr>
        <p:spPr>
          <a:xfrm>
            <a:off x="285840" y="961920"/>
            <a:ext cx="4500360" cy="417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stand tall, hold your heads high, because your freedom is near at h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yourselves, or your hearts will be hardened with selfishness and greed and the cares of life, and that day will be sprung on you suddenly like a tra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y awake, praying at all times for the strength to survive all that is going to happen, and to stand with confidence before the Son of 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his is the Gospel of the Lord</a:t>
            </a:r>
            <a:br>
              <a:rPr sz="1600"/>
            </a:b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Praise to you, Lord Jesus Christ.</a:t>
            </a:r>
            <a:r>
              <a:rPr b="1" lang="en-GB" sz="2000" spc="-1" strike="noStrike">
                <a:solidFill>
                  <a:srgbClr val="cc3399"/>
                </a:solidFill>
                <a:latin typeface="Arial"/>
              </a:rPr>
              <a:t> </a:t>
            </a:r>
            <a:endParaRPr b="0" lang="en-US" sz="2000" spc="-1" strike="noStrike">
              <a:solidFill>
                <a:srgbClr val="ffffff"/>
              </a:solidFill>
              <a:latin typeface="Arial"/>
            </a:endParaRPr>
          </a:p>
        </p:txBody>
      </p:sp>
      <p:sp>
        <p:nvSpPr>
          <p:cNvPr id="96" name="Text Box 7"/>
          <p:cNvSpPr/>
          <p:nvPr/>
        </p:nvSpPr>
        <p:spPr>
          <a:xfrm>
            <a:off x="-2214720" y="685800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hlinkClick r:id="rId1"/>
              </a:rPr>
              <a:t>15851032</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97" name="Picture 4" descr="Fotolia_15851032_XS.jpg"/>
          <p:cNvPicPr/>
          <p:nvPr/>
        </p:nvPicPr>
        <p:blipFill>
          <a:blip r:embed="rId2"/>
          <a:stretch/>
        </p:blipFill>
        <p:spPr>
          <a:xfrm>
            <a:off x="4857840" y="785880"/>
            <a:ext cx="3822480" cy="506736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Fotolia_16121240_XS.jpg"/>
          <p:cNvPicPr/>
          <p:nvPr/>
        </p:nvPicPr>
        <p:blipFill>
          <a:blip r:embed="rId1"/>
          <a:stretch/>
        </p:blipFill>
        <p:spPr>
          <a:xfrm>
            <a:off x="500040" y="714240"/>
            <a:ext cx="8077320" cy="539136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Fotolia_8171652_XS.jpg"/>
          <p:cNvPicPr/>
          <p:nvPr/>
        </p:nvPicPr>
        <p:blipFill>
          <a:blip r:embed="rId1"/>
          <a:stretch/>
        </p:blipFill>
        <p:spPr>
          <a:xfrm>
            <a:off x="-142920" y="428760"/>
            <a:ext cx="4560840" cy="3439800"/>
          </a:xfrm>
          <a:prstGeom prst="rect">
            <a:avLst/>
          </a:prstGeom>
          <a:ln w="0">
            <a:noFill/>
          </a:ln>
        </p:spPr>
      </p:pic>
      <p:graphicFrame>
        <p:nvGraphicFramePr>
          <p:cNvPr id="100" name="Object 8"/>
          <p:cNvGraphicFramePr/>
          <p:nvPr/>
        </p:nvGraphicFramePr>
        <p:xfrm>
          <a:off x="4336920" y="-114480"/>
          <a:ext cx="4807080" cy="3043440"/>
        </p:xfrm>
        <a:graphic>
          <a:graphicData uri="http://schemas.openxmlformats.org/presentationml/2006/ole">
            <p:oleObj r:id="rId2" spid="">
              <p:embed/>
              <p:pic>
                <p:nvPicPr>
                  <p:cNvPr id="101" name="Object 8" descr=""/>
                  <p:cNvPicPr/>
                  <p:nvPr/>
                </p:nvPicPr>
                <p:blipFill>
                  <a:blip r:embed="rId3"/>
                  <a:stretch/>
                </p:blipFill>
                <p:spPr>
                  <a:xfrm>
                    <a:off x="4336920" y="-114480"/>
                    <a:ext cx="4807080" cy="3043440"/>
                  </a:xfrm>
                  <a:prstGeom prst="rect">
                    <a:avLst/>
                  </a:prstGeom>
                  <a:ln w="0">
                    <a:noFill/>
                  </a:ln>
                </p:spPr>
              </p:pic>
            </p:oleObj>
          </a:graphicData>
        </a:graphic>
      </p:graphicFrame>
      <p:sp>
        <p:nvSpPr>
          <p:cNvPr id="102" name="Text Box 15"/>
          <p:cNvSpPr/>
          <p:nvPr/>
        </p:nvSpPr>
        <p:spPr>
          <a:xfrm>
            <a:off x="1143000" y="400068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r of bullying</a:t>
            </a:r>
            <a:endParaRPr b="0" lang="en-US" sz="1800" spc="-1" strike="noStrike">
              <a:solidFill>
                <a:srgbClr val="ffffff"/>
              </a:solidFill>
              <a:latin typeface="Arial"/>
            </a:endParaRPr>
          </a:p>
        </p:txBody>
      </p:sp>
      <p:sp>
        <p:nvSpPr>
          <p:cNvPr id="103" name="Rectangle 17"/>
          <p:cNvSpPr/>
          <p:nvPr/>
        </p:nvSpPr>
        <p:spPr>
          <a:xfrm>
            <a:off x="5733360" y="33336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81bd"/>
                </a:solidFill>
                <a:latin typeface="Arial"/>
              </a:rPr>
              <a:t>fear</a:t>
            </a:r>
            <a:r>
              <a:rPr b="0" lang="en-GB" sz="1800" spc="-1" strike="noStrike">
                <a:solidFill>
                  <a:srgbClr val="ffffff"/>
                </a:solidFill>
                <a:latin typeface="Arial"/>
              </a:rPr>
              <a:t> </a:t>
            </a:r>
            <a:r>
              <a:rPr b="0" lang="en-GB" sz="1800" spc="-1" strike="noStrike">
                <a:solidFill>
                  <a:srgbClr val="4f81bd"/>
                </a:solidFill>
                <a:latin typeface="Arial"/>
              </a:rPr>
              <a:t>of</a:t>
            </a:r>
            <a:r>
              <a:rPr b="0" lang="en-GB" sz="1800" spc="-1" strike="noStrike">
                <a:solidFill>
                  <a:srgbClr val="ffffff"/>
                </a:solidFill>
                <a:latin typeface="Arial"/>
              </a:rPr>
              <a:t> </a:t>
            </a:r>
            <a:r>
              <a:rPr b="0" lang="en-GB" sz="1800" spc="-1" strike="noStrike">
                <a:solidFill>
                  <a:srgbClr val="4f81bd"/>
                </a:solidFill>
                <a:latin typeface="Arial"/>
              </a:rPr>
              <a:t>poverty</a:t>
            </a:r>
            <a:endParaRPr b="0" lang="en-US" sz="1800" spc="-1" strike="noStrike">
              <a:solidFill>
                <a:srgbClr val="ffffff"/>
              </a:solidFill>
              <a:latin typeface="Arial"/>
            </a:endParaRPr>
          </a:p>
        </p:txBody>
      </p:sp>
      <p:pic>
        <p:nvPicPr>
          <p:cNvPr id="104" name="Picture 9" descr="Fotolia_1686123_XS.jpg"/>
          <p:cNvPicPr/>
          <p:nvPr/>
        </p:nvPicPr>
        <p:blipFill>
          <a:blip r:embed="rId4"/>
          <a:stretch/>
        </p:blipFill>
        <p:spPr>
          <a:xfrm>
            <a:off x="4000680" y="2951280"/>
            <a:ext cx="5041800" cy="3835440"/>
          </a:xfrm>
          <a:prstGeom prst="rect">
            <a:avLst/>
          </a:prstGeom>
          <a:ln w="0">
            <a:noFill/>
          </a:ln>
        </p:spPr>
      </p:pic>
      <p:sp>
        <p:nvSpPr>
          <p:cNvPr id="105" name="Text Box 16"/>
          <p:cNvSpPr/>
          <p:nvPr/>
        </p:nvSpPr>
        <p:spPr>
          <a:xfrm>
            <a:off x="4214880" y="621504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r of not being loved</a:t>
            </a:r>
            <a:endParaRPr b="0" lang="en-US" sz="18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8"/>
          <p:cNvSpPr txBox="1"/>
          <p:nvPr/>
        </p:nvSpPr>
        <p:spPr>
          <a:xfrm>
            <a:off x="2976480" y="404640"/>
            <a:ext cx="302436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Praye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07" name="Picture 4" descr="Fotolia_2834864_XS.jpg"/>
          <p:cNvPicPr/>
          <p:nvPr/>
        </p:nvPicPr>
        <p:blipFill>
          <a:blip r:embed="rId1"/>
          <a:stretch/>
        </p:blipFill>
        <p:spPr>
          <a:xfrm>
            <a:off x="928800" y="1500120"/>
            <a:ext cx="7538760" cy="503244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8"/>
          <p:cNvSpPr txBox="1"/>
          <p:nvPr/>
        </p:nvSpPr>
        <p:spPr>
          <a:xfrm>
            <a:off x="2340000" y="620640"/>
            <a:ext cx="4333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Give up being selfish</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09" name="Picture 10" descr="British children eating themselves into an early grave, study claims"/>
          <p:cNvPicPr/>
          <p:nvPr/>
        </p:nvPicPr>
        <p:blipFill>
          <a:blip r:embed="rId1"/>
          <a:stretch/>
        </p:blipFill>
        <p:spPr>
          <a:xfrm>
            <a:off x="971640" y="1557360"/>
            <a:ext cx="7272360" cy="45529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WordArt 6"/>
          <p:cNvSpPr txBox="1"/>
          <p:nvPr/>
        </p:nvSpPr>
        <p:spPr>
          <a:xfrm>
            <a:off x="2340000" y="620640"/>
            <a:ext cx="4537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Help other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111" name="Picture 8" descr="0807_jul%2008_2_belfast"/>
          <p:cNvPicPr/>
          <p:nvPr/>
        </p:nvPicPr>
        <p:blipFill>
          <a:blip r:embed="rId1"/>
          <a:stretch/>
        </p:blipFill>
        <p:spPr>
          <a:xfrm>
            <a:off x="2700360" y="1628640"/>
            <a:ext cx="3771720" cy="502920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04:18Z</dcterms:created>
  <dc:creator>Fawcett Family</dc:creator>
  <dc:description/>
  <dc:language>en-US</dc:language>
  <cp:lastModifiedBy>Michael</cp:lastModifiedBy>
  <dcterms:modified xsi:type="dcterms:W3CDTF">2009-11-25T09:43:57Z</dcterms:modified>
  <cp:revision>67</cp:revision>
  <dc:subject/>
  <dc:title>Slide 1</dc:title>
</cp:coreProperties>
</file>