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B363-D5E2-4C83-B672-94FAF35285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7A99-6B1F-49C8-8370-F28ACA4FD77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748D-AB97-4851-AAC0-F50A594F5C8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lit the first candle as a sign of wa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lit the second candle to show we are getting ready for Jesus new life in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lit the third pink candle as a sign of our joy in getting ready for Jesus’ birth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we are ready to light the fourth candle to show we are nearly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hite candle in the centre will be lit on Christmas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0E27-57C7-411E-A785-6F9AD4FF531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7026-2E0A-49D7-83C0-3B5DAE5CAB6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a Giovanni was a simple and most holy man and so people called him Angelico meaning, like an ang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was called this because he was so good and because he could paint the most beautiful expressions on his sub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FD7A-843A-4AAD-A1F8-B5306266638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us listen to the words of the Gosp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CA13-D7ED-484E-BE37-88CA03AF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7E14-49E9-405D-B0D0-E9B51C9A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844-28E2-41EB-83C3-821248C4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44756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891240"/>
            <a:ext cx="28706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1F42-6A03-4EA7-95E7-98A3551A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304-6676-46FF-BF66-2ECF71B0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506-79CC-4061-9233-5E00859E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5E3F-AE85-46CF-BBC6-ACFE4F75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CCC-5401-49CC-9D59-5C3FA6B4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151920"/>
            <a:ext cx="8915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CF0D-E12D-46CC-85F6-E9DA1695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299-00D9-4656-B696-AFEADAC1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89124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190B-74E7-4F91-AAF7-EA3E580D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447560"/>
            <a:ext cx="4350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891240"/>
            <a:ext cx="8915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8580-AE11-4895-90F1-614A00AC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73360" y="6203520"/>
            <a:ext cx="28069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11200" y="6203520"/>
            <a:ext cx="3879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9112320" y="6181560"/>
            <a:ext cx="660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eeece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23B3-35E9-49AE-9BA0-797A24BDA756}" type="slidenum">
              <a:rPr b="0" lang="en-GB" sz="1600" spc="-1" strike="noStrike">
                <a:solidFill>
                  <a:srgbClr val="eeece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95000" y="1519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-235080" y="620640"/>
            <a:ext cx="101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200" spc="-1" strike="noStrike">
                <a:solidFill>
                  <a:srgbClr val="ffffff"/>
                </a:solidFill>
                <a:latin typeface="Times New Roman"/>
                <a:ea typeface="Arial"/>
              </a:rPr>
              <a:t>The Gift of Lov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93680" y="5589720"/>
            <a:ext cx="93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Fourth Sunday of Advent Year 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7" descr="Fotolia_10059582_XS.jpg"/>
          <p:cNvPicPr/>
          <p:nvPr/>
        </p:nvPicPr>
        <p:blipFill>
          <a:blip r:embed="rId1"/>
          <a:stretch/>
        </p:blipFill>
        <p:spPr>
          <a:xfrm>
            <a:off x="1738440" y="1785960"/>
            <a:ext cx="5922720" cy="3952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208160" y="62064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 you remember what Jesus asks us to do so we can be full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gift of His l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Fotolia_11927074_XS.jpg"/>
          <p:cNvPicPr/>
          <p:nvPr/>
        </p:nvPicPr>
        <p:blipFill>
          <a:blip r:embed="rId1"/>
          <a:stretch/>
        </p:blipFill>
        <p:spPr>
          <a:xfrm>
            <a:off x="3024360" y="2214720"/>
            <a:ext cx="4174920" cy="417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WordArt 4"/>
          <p:cNvGrpSpPr/>
          <p:nvPr/>
        </p:nvGrpSpPr>
        <p:grpSpPr>
          <a:xfrm>
            <a:off x="2505240" y="5516640"/>
            <a:ext cx="4578120" cy="1146240"/>
            <a:chOff x="2505240" y="5516640"/>
            <a:chExt cx="4578120" cy="1146240"/>
          </a:xfrm>
        </p:grpSpPr>
        <p:pic>
          <p:nvPicPr>
            <p:cNvPr id="71" name="WordArt 4" descr=""/>
            <p:cNvPicPr/>
            <p:nvPr/>
          </p:nvPicPr>
          <p:blipFill>
            <a:blip r:embed="rId1"/>
            <a:stretch/>
          </p:blipFill>
          <p:spPr>
            <a:xfrm>
              <a:off x="2505240" y="5516640"/>
              <a:ext cx="45781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523960" y="5532480"/>
              <a:ext cx="454680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b2b2b2"/>
                  </a:solidFill>
                  <a:latin typeface="Comic Sans MS"/>
                  <a:ea typeface="Arial"/>
                </a:rPr>
                <a:t>Say our prayer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3" name="Picture 8" descr="Fotolia_6312072_XS.jpg"/>
          <p:cNvPicPr/>
          <p:nvPr/>
        </p:nvPicPr>
        <p:blipFill>
          <a:blip r:embed="rId2"/>
          <a:stretch/>
        </p:blipFill>
        <p:spPr>
          <a:xfrm>
            <a:off x="952560" y="571680"/>
            <a:ext cx="8077320" cy="5391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b2b2b2"/>
                </a:solidFill>
                <a:latin typeface="Comic Sans MS"/>
              </a:rPr>
              <a:t>Help others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5" name="WordArt 23"/>
          <p:cNvSpPr txBox="1"/>
          <p:nvPr/>
        </p:nvSpPr>
        <p:spPr>
          <a:xfrm>
            <a:off x="488880" y="5500800"/>
            <a:ext cx="2171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 hom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7040520" y="5645160"/>
            <a:ext cx="23763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t pla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WordArt 22"/>
          <p:cNvSpPr txBox="1"/>
          <p:nvPr/>
        </p:nvSpPr>
        <p:spPr>
          <a:xfrm>
            <a:off x="3355920" y="4714920"/>
            <a:ext cx="30974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 school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8" name="Picture 13" descr="Fotolia_865888_XS.jpg"/>
          <p:cNvPicPr/>
          <p:nvPr/>
        </p:nvPicPr>
        <p:blipFill>
          <a:blip r:embed="rId1"/>
          <a:stretch/>
        </p:blipFill>
        <p:spPr>
          <a:xfrm>
            <a:off x="3024360" y="1785960"/>
            <a:ext cx="3768480" cy="251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Fotolia_9913222_XS.jpg"/>
          <p:cNvPicPr/>
          <p:nvPr/>
        </p:nvPicPr>
        <p:blipFill>
          <a:blip r:embed="rId2"/>
          <a:stretch/>
        </p:blipFill>
        <p:spPr>
          <a:xfrm>
            <a:off x="380880" y="1500120"/>
            <a:ext cx="2516400" cy="3768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Fotolia_8651803_XS.jpg"/>
          <p:cNvPicPr/>
          <p:nvPr/>
        </p:nvPicPr>
        <p:blipFill>
          <a:blip r:embed="rId3"/>
          <a:stretch/>
        </p:blipFill>
        <p:spPr>
          <a:xfrm>
            <a:off x="6953400" y="1500120"/>
            <a:ext cx="2516040" cy="3768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WordArt 4"/>
          <p:cNvGrpSpPr/>
          <p:nvPr/>
        </p:nvGrpSpPr>
        <p:grpSpPr>
          <a:xfrm>
            <a:off x="396720" y="755640"/>
            <a:ext cx="9210960" cy="592200"/>
            <a:chOff x="396720" y="755640"/>
            <a:chExt cx="9210960" cy="592200"/>
          </a:xfrm>
        </p:grpSpPr>
        <p:pic>
          <p:nvPicPr>
            <p:cNvPr id="82" name="WordArt 4" descr=""/>
            <p:cNvPicPr/>
            <p:nvPr/>
          </p:nvPicPr>
          <p:blipFill>
            <a:blip r:embed="rId1"/>
            <a:stretch/>
          </p:blipFill>
          <p:spPr>
            <a:xfrm>
              <a:off x="396720" y="755640"/>
              <a:ext cx="921096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12920" y="773280"/>
              <a:ext cx="918360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300" spc="-1" strike="noStrike">
                  <a:solidFill>
                    <a:srgbClr val="b2b2b2"/>
                  </a:solidFill>
                  <a:latin typeface="Comic Sans MS"/>
                </a:rPr>
                <a:t>Give up being selfish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" name="Picture 8" descr="Fotolia_7359584_XS.jpg"/>
          <p:cNvPicPr/>
          <p:nvPr/>
        </p:nvPicPr>
        <p:blipFill>
          <a:blip r:embed="rId2"/>
          <a:stretch/>
        </p:blipFill>
        <p:spPr>
          <a:xfrm>
            <a:off x="3238560" y="1571760"/>
            <a:ext cx="3235320" cy="4846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Advent Candles4_2"/>
          <p:cNvPicPr/>
          <p:nvPr/>
        </p:nvPicPr>
        <p:blipFill>
          <a:blip r:embed="rId1"/>
          <a:stretch/>
        </p:blipFill>
        <p:spPr>
          <a:xfrm>
            <a:off x="1600200" y="825480"/>
            <a:ext cx="6707160" cy="5207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-235080" y="620640"/>
            <a:ext cx="101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200" spc="-1" strike="noStrike">
                <a:solidFill>
                  <a:srgbClr val="ffffff"/>
                </a:solidFill>
                <a:latin typeface="Times New Roman"/>
                <a:ea typeface="Arial"/>
              </a:rPr>
              <a:t>The Gift of Lov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93680" y="5748480"/>
            <a:ext cx="93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Fourth Sunday of Advent Year 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8" descr="Fotolia_10059582_XS.jpg"/>
          <p:cNvPicPr/>
          <p:nvPr/>
        </p:nvPicPr>
        <p:blipFill>
          <a:blip r:embed="rId1"/>
          <a:stretch/>
        </p:blipFill>
        <p:spPr>
          <a:xfrm>
            <a:off x="1809720" y="1833480"/>
            <a:ext cx="5923080" cy="3952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974880" y="836640"/>
            <a:ext cx="81896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WA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We will learn about why Elizabeth was so pleased to have a visit from Ma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WI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We will know if we have been successful if we can talk about how we understand that Jesus is a gift from G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MCj04110310000[1]"/>
          <p:cNvPicPr/>
          <p:nvPr/>
        </p:nvPicPr>
        <p:blipFill>
          <a:blip r:embed="rId1"/>
          <a:stretch/>
        </p:blipFill>
        <p:spPr>
          <a:xfrm>
            <a:off x="7994520" y="476280"/>
            <a:ext cx="1606680" cy="1506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Fotolia_17307147_XS.jpg"/>
          <p:cNvPicPr/>
          <p:nvPr/>
        </p:nvPicPr>
        <p:blipFill>
          <a:blip r:embed="rId1"/>
          <a:stretch/>
        </p:blipFill>
        <p:spPr>
          <a:xfrm>
            <a:off x="0" y="0"/>
            <a:ext cx="9906120" cy="9323280"/>
          </a:xfrm>
          <a:prstGeom prst="rect">
            <a:avLst/>
          </a:prstGeom>
          <a:ln w="0">
            <a:noFill/>
          </a:ln>
        </p:spPr>
      </p:pic>
      <p:sp>
        <p:nvSpPr>
          <p:cNvPr id="54" name="WordArt 7"/>
          <p:cNvSpPr txBox="1"/>
          <p:nvPr/>
        </p:nvSpPr>
        <p:spPr>
          <a:xfrm>
            <a:off x="4524480" y="71280"/>
            <a:ext cx="5254560" cy="551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s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esents are wrapped 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rightly coloured paper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d tied up wit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etty ribb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d bows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Fotolia_17778313_XS.jpg"/>
          <p:cNvPicPr/>
          <p:nvPr/>
        </p:nvPicPr>
        <p:blipFill>
          <a:blip r:embed="rId1"/>
          <a:stretch/>
        </p:blipFill>
        <p:spPr>
          <a:xfrm>
            <a:off x="0" y="-142920"/>
            <a:ext cx="4672080" cy="7000920"/>
          </a:xfrm>
          <a:prstGeom prst="rect">
            <a:avLst/>
          </a:prstGeom>
          <a:ln w="0">
            <a:noFill/>
          </a:ln>
        </p:spPr>
      </p:pic>
      <p:sp>
        <p:nvSpPr>
          <p:cNvPr id="56" name="WordArt 12"/>
          <p:cNvSpPr txBox="1"/>
          <p:nvPr/>
        </p:nvSpPr>
        <p:spPr>
          <a:xfrm>
            <a:off x="5238720" y="907920"/>
            <a:ext cx="428616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boy is delighte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t one of them ha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en left for him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4681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if one package under the tree is this one, beautifully wrapped in plain brown paper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ould he would choose to open it first?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ll he know what is in it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uld it be really special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gift is supposed to come in a beautiful package, isn't it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0739520" y="3999960"/>
            <a:ext cx="28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00587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6" descr="Fotolia_2005873_XS.jpg"/>
          <p:cNvPicPr/>
          <p:nvPr/>
        </p:nvPicPr>
        <p:blipFill>
          <a:blip r:embed="rId1"/>
          <a:stretch/>
        </p:blipFill>
        <p:spPr>
          <a:xfrm>
            <a:off x="4595760" y="1071720"/>
            <a:ext cx="5067360" cy="3822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2520" y="1856880"/>
            <a:ext cx="3456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God's gift didn't come in a beautifully wrapped package. God sent Jesus, His only Son, as His gift to us, born in a stab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1" name="Picture 6" descr="Fotolia_17543490_XS.jpg"/>
          <p:cNvPicPr/>
          <p:nvPr/>
        </p:nvPicPr>
        <p:blipFill>
          <a:blip r:embed="rId1"/>
          <a:stretch/>
        </p:blipFill>
        <p:spPr>
          <a:xfrm>
            <a:off x="4167360" y="1214280"/>
            <a:ext cx="5433840" cy="4302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44160" y="475920"/>
            <a:ext cx="8785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ose days Mary set out and went with haste to a Judean town in the hill country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she entered the house of Zechariah and greeted Elizabeth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lizabeth was filled with the Holy Spirit and exclaimed with a loud cry,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"Blessed are you among women, and blessed is the fruit of your womb.”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5095800" y="557208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This is the Gospel of the Lord</a:t>
            </a:r>
            <a:br>
              <a:rPr sz="2400"/>
            </a:b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Praise to you, Lord Jesus Chr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2520" y="1285560"/>
            <a:ext cx="39290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This gift of God, Jesus, was born to a young woma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His earthly father was a poor carpenter, not a royal king with fine clothes and palac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5" name="Picture 4" descr="File:Collinson, Holy Family.jpg"/>
          <p:cNvPicPr/>
          <p:nvPr/>
        </p:nvPicPr>
        <p:blipFill>
          <a:blip r:embed="rId1"/>
          <a:stretch/>
        </p:blipFill>
        <p:spPr>
          <a:xfrm>
            <a:off x="4627440" y="0"/>
            <a:ext cx="527868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560520" y="1929600"/>
            <a:ext cx="3600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Jesus was the greatest gift the world has ever know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e is the gift of l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e knows your name and mine!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See full size image"/>
          <p:cNvPicPr/>
          <p:nvPr/>
        </p:nvPicPr>
        <p:blipFill>
          <a:blip r:embed="rId1"/>
          <a:stretch/>
        </p:blipFill>
        <p:spPr>
          <a:xfrm>
            <a:off x="4881600" y="907920"/>
            <a:ext cx="4089240" cy="5113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0:48:23Z</dcterms:created>
  <dc:creator>Fawcett Family</dc:creator>
  <dc:description/>
  <dc:language>en-US</dc:language>
  <cp:lastModifiedBy>Michael McGrath</cp:lastModifiedBy>
  <dcterms:modified xsi:type="dcterms:W3CDTF">2009-12-17T21:18:52Z</dcterms:modified>
  <cp:revision>42</cp:revision>
  <dc:subject/>
  <dc:title>Slide 1</dc:title>
</cp:coreProperties>
</file>