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0F9-AA40-4B4A-8D8C-82A94418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9B4-4D64-471C-99F5-409EA5F1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B49-9B34-4AF9-AB0A-79527025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D54-FC3F-468B-A69B-5E7F68B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34FD-97EE-43BF-88F9-84EC552E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7BCF-F79A-40DC-AABD-AC737018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889-5649-4398-9C5E-25ADAA6C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379-D178-4E57-9D1A-1AF1510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D67F-81C2-495E-8602-0B659B98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7075-2B1E-4598-900E-E3CB44E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95A6-7655-4CC3-9494-34625F7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1BA-1060-48F2-B729-A6BB2382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E90C-F563-4B02-8003-656A9DD7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5200-E74A-4A75-8F17-7918EC7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F05E-7852-4D42-A332-D72EB978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EE70-FCA2-4D82-ACB5-721400A6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31D-5603-4D9D-AD77-B067B17A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DFB-CB9B-45D3-824C-88A4CF4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2C6-0414-4946-B44A-F211885C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F7C-517A-481D-B1E4-DC05C910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9CC-D88F-4961-85DB-34F153C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AB0-FEF5-4067-B586-145AF07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C95-78E1-477A-997D-1D7FAC69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DC9-9073-4CA8-88AB-76DE7DFF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6400440"/>
            <a:ext cx="236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4585-3487-4818-97AD-006BDE6AF8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7120"/>
            <a:ext cx="2361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3048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62904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8B7C-D944-4A32-99E3-B474135B35A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9144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1:58:21Z</dcterms:created>
  <dc:creator>Michael</dc:creator>
  <dc:description/>
  <dc:language>en-US</dc:language>
  <cp:lastModifiedBy>Michael</cp:lastModifiedBy>
  <dcterms:modified xsi:type="dcterms:W3CDTF">2010-12-03T12:13:43Z</dcterms:modified>
  <cp:revision>5</cp:revision>
  <dc:subject/>
  <dc:title>Our Christmas service</dc:title>
</cp:coreProperties>
</file>