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C20-6F11-4C44-B40D-55B68385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4F3-B5CF-470D-AC30-6A830DC6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581-D2C1-4B80-A002-96848273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568-B0AB-4360-87E8-5D99945D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28B5-CDD5-4CE8-828F-26CFA121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4D55-F9A3-41A5-94B2-D84C1906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6D5A-A094-40E5-B4AF-CA684AC8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916A-8C0B-4D01-8626-8B0EC2E2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DD39-5FED-4824-BFDF-BAA23E5A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7759-5001-4267-8BE0-968AAC98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96C0-9635-4B86-AA52-5C5B7845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81D-26A5-444D-B54A-592FFAFA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7E12-6C2A-4710-BF60-E7922BAC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6F9F-D912-424F-96A4-280B9DED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538A-2934-436A-AF25-387EDA41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3CF3-BD3B-4495-8A49-B5E50D69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A197-C5C7-43D3-9BDA-1D89253F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840B-D677-4E0E-90FC-DA6FA911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410-6207-401F-9461-5345C8E5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98D-0B34-4C10-B1B5-AEEAB306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7A4-02E7-4600-9493-CCE8EF37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014D-8845-45E0-BEA4-21DCF6B6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50E-B1B4-4609-8886-493CD354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955B-22D1-417F-A4DD-B6342245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8467-512D-4352-8CDC-3C8BB42374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F757-010E-4B31-B666-0C3DDE1BBB7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914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 our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58:21Z</dcterms:created>
  <dc:creator>Michael</dc:creator>
  <dc:description/>
  <dc:language>en-US</dc:language>
  <cp:lastModifiedBy>Michael</cp:lastModifiedBy>
  <dcterms:modified xsi:type="dcterms:W3CDTF">2010-12-03T12:14:23Z</dcterms:modified>
  <cp:revision>7</cp:revision>
  <dc:subject/>
  <dc:title>Our Christmas service</dc:title>
</cp:coreProperties>
</file>