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77F-9573-417E-AE07-EA0E2466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33F-3072-4CD9-97BA-513C6DD4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CC9-1596-4023-ABB1-49FE512E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2D4-E28F-4710-B98A-CB60C0CB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73CC-81D6-42D3-B48C-5D7BEB5A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4DEF-3E28-440E-A12A-2ADBAA7D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8861-2540-4B5D-B304-E63F1DF0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97B4-4FB8-4E78-BC60-2F07C1DB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2A9F-89EC-4B9F-8F80-4515AEE4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3180-5D77-43D3-B20E-4D51E7BD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6A20-ED4C-4897-A027-338B726B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C33-A59F-41AD-B374-AB0D8EB2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4C5E-CE74-489B-ADDB-026B5A49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C85F-DFF4-4974-B455-2F5689B1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BE83-6171-4E72-9809-CEA01FD1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317C-8FF0-4386-ABD2-CF51654F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E242-2CE3-41A6-B60E-8F7A5231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3C2-4E73-4ECF-A2D4-064BFA8F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CC7-C0A0-4139-8E90-954991ED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3B7-008A-467E-9DFC-27A80DB7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3F2-D5D4-4629-A05F-E9C2D7AD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DEF-19A5-4329-A9F1-E381E087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048-F25D-4F7E-B276-6E8D9FAC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E5E-C77E-493A-B2B9-D7640666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F4B8-D2BC-45DF-96FA-114B78E5082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6128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86CA-1211-44CA-ACBD-734A0DE8E9F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9903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4:04Z</dcterms:modified>
  <cp:revision>6</cp:revision>
  <dc:subject/>
  <dc:title>Our Christmas service</dc:title>
</cp:coreProperties>
</file>