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DB0-32C1-418A-AD25-EF67DDC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222-0DEE-4B25-A6E0-9763148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581-6635-4C42-AAF4-95EA2CC6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5A0-5EE6-4A41-9844-AF0C10D4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F546-73F5-4B3D-840D-75B81EB5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61E-2A73-4205-B845-8C18CF3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2A3B-7AC5-4596-9D5A-BB40004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B0F4-C380-46C7-8688-387E976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2CED-5B07-4FE0-A951-34FAAE00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CF7C-BE81-4223-89DA-176982D0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986-219C-4D7C-82B2-4F24F8D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604-24CA-4F48-891D-6A1D5E6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32C-2D9A-45DD-A5D0-41AB2DF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C9A2-C5EB-41AF-B1D8-8383A2F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520A-6F65-4A27-BD10-9F734ADD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55E-E70F-49B0-9F4F-3DC132D9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F55-437B-4E33-976A-9D53568C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83E-7F10-44D4-9DC6-25A6D8F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0B8-7150-4940-BA19-F4C0388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194-785C-4BFB-9D95-E0340748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7C6-03DC-417B-AFE7-4CC38CEB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5FE-A6A5-43FF-A733-A283B91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442-483C-4694-B9C7-B4DF512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2E2-5F49-4FFB-BE33-9D1DC1D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C04-AE1C-4202-8D7C-976E2AC66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520" y="6781680"/>
            <a:ext cx="21337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8168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BA6-6F73-40DC-95FB-BC512BA38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3915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2:11:19Z</dcterms:created>
  <dc:creator>Michael</dc:creator>
  <dc:description/>
  <dc:language>en-US</dc:language>
  <cp:lastModifiedBy>Michael</cp:lastModifiedBy>
  <dcterms:modified xsi:type="dcterms:W3CDTF">2010-12-03T12:12:05Z</dcterms:modified>
  <cp:revision>1</cp:revision>
  <dc:subject/>
  <dc:title>Our Christmas service</dc:title>
</cp:coreProperties>
</file>