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663-2F69-4DF2-A7BC-5C0F95CA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10B-8781-4191-994F-7BF7FCBF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308-2E61-48F2-BDC2-1AE5151C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55F-CCFA-4549-9242-F0776D3D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EBFC-9256-41A6-9985-8F39DCB9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387-1E0B-462A-AA0B-29276E9D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0340-D944-4B07-9340-671ABD80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0CD6-D973-4E74-9911-6511FAFD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0586-0F48-43A5-86C4-386B96D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43C0-3DD1-48C1-823A-E80C53C5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7D3C-B6D4-4F3D-87F3-FBA39581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81F-7B6E-4E0F-BB41-3A3FBF5F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DC0D-1CD9-4624-98B4-D8C9595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68C5-9B03-4FEC-8B31-A905B37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8304-122A-41A7-A6D3-BB086786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C72-6BCB-4E80-8993-6EEFA1F1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093-35A8-4A6F-86EA-08A003BC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6D0-A664-48E1-88CC-B323A79B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B5A-73F1-444A-8870-8542277C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315-B6E5-4A2C-8870-07E2E66E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5DA0-F43C-4B52-9CFE-5A3FB084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CD3-1DDE-4EC3-85D1-771DB88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0B8-8B8E-45BC-B0ED-36171D60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EEF-5074-460F-B9F3-81F24CE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BC06-D8E7-4A09-B9AD-6BFA4241D8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D0BD-9BDE-43FB-9C78-FB61CCC3D2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239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9320" y="914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23Z</dcterms:modified>
  <cp:revision>7</cp:revision>
  <dc:subject/>
  <dc:title>Our Christmas service</dc:title>
</cp:coreProperties>
</file>