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835-063C-4C2D-9088-DAFFEDE1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9C3-3070-440B-B256-38A63215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17C-F336-4C92-BC2C-5880E4BA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095-0899-452C-B14E-C25755F5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92FA-940C-4D16-88AD-C9E441FA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6003-20A1-49E8-9E61-02ED0D9D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7C91-EDD2-4C14-9847-49AB187D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75EF-4537-4EE4-8E05-935A469B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4388-16CD-4958-BCFF-61BEC1D3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3308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2D36-A20D-41D5-B40C-FF453634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C644-B097-4E1C-B410-E30C1291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F51-7FE9-47EF-8BCA-B112414E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232B-C8C1-41CC-A4C8-15D7E676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F05E-0C6D-4B63-8166-84B054EB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CFC9-150C-4B52-B87D-E31C4E15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6958-E514-49B9-B9EF-50B3CDCF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5F05-81C9-492B-AB09-9A88786F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32B-C12B-405D-8E74-46C8D083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3CC-8283-45B3-8C5D-6B8AD531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6C3-93B2-4257-B28A-D6EAD0D8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308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537-BC4C-44EA-954D-E75812BE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BF5-37B2-4C4E-8431-54FEA996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BB0-8606-4759-99AA-8208727B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958-0D44-4ABF-B5F6-D43647A4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661F-010A-4F04-8060-87BE954E76B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88200"/>
            <a:ext cx="2133720" cy="38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88200"/>
            <a:ext cx="2895840" cy="38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88200"/>
            <a:ext cx="2133720" cy="38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41A4-CBCF-4AF2-A54A-3438C0F8F3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2440" y="4859280"/>
            <a:ext cx="8454960" cy="87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Our Christmas servic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2440" y="5744880"/>
            <a:ext cx="640080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t our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r Christmas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5:10Z</dcterms:modified>
  <cp:revision>9</cp:revision>
  <dc:subject/>
  <dc:title>Our Christmas service</dc:title>
</cp:coreProperties>
</file>