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79A-6011-4CFE-8C9A-4EDA2B15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7FC-6929-4D00-8FDB-7CB4C04B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9414-9FC9-4D44-BA85-3067DEE6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DDC9-865C-496A-AAD1-71955218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A700-9A7A-4D49-B9A5-408533FF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167A-950A-4F7B-8927-3B04A33F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394F-9E6F-4C5C-A50C-2D4BCC23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F569-B91E-4626-9F60-D86133B5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4F64-E124-47CA-9DCA-1BFEE577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3308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8D1E-77CC-4BC2-8E47-2A3AE2E7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0ACB-277D-401A-B0D3-D173C304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9D3-8309-4D51-BB08-C1ACF5BE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4FEF-3899-40EC-B4B8-0067839C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A69C-B46E-4523-8A4B-3B409017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021C-DCA0-4375-8930-0D2A86EE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1EBC-51C1-4674-8873-30A6C513E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DF5A-5002-42B4-8E0D-74D5FDA1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79C-0E83-4CA6-991A-7B6D5CC7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F86A-E1D1-44B8-9A3D-7CB067B7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81D9-8D9C-443A-825C-B1A9D6E9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308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CD2-D640-45C6-95BA-09D2F326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E0C-2060-460D-BFBD-20B2202E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D987-59A1-4A91-BB79-7283CAEB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9AEA-AE6A-49DC-B167-71118128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F23B-F2D8-4391-BC91-ABBB0144806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88200"/>
            <a:ext cx="2133720" cy="38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88200"/>
            <a:ext cx="2895840" cy="38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88200"/>
            <a:ext cx="2133720" cy="38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F71A-DEC5-4FDC-B43A-0EABF4FC7D8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2440" y="4859280"/>
            <a:ext cx="8454960" cy="87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Arial"/>
              </a:rPr>
              <a:t>Our Christmas servic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2440" y="5744880"/>
            <a:ext cx="6400800" cy="5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at our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330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ur Christmas ser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1:58:21Z</dcterms:created>
  <dc:creator>Michael</dc:creator>
  <dc:description/>
  <dc:language>en-US</dc:language>
  <cp:lastModifiedBy>Michael</cp:lastModifiedBy>
  <dcterms:modified xsi:type="dcterms:W3CDTF">2010-12-03T12:15:10Z</dcterms:modified>
  <cp:revision>9</cp:revision>
  <dc:subject/>
  <dc:title>Our Christmas service</dc:title>
</cp:coreProperties>
</file>