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9D71-C592-4045-ADEA-80660395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458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5FF-0636-4EA8-83BC-16EBCECC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9C5-5B3F-4B7C-BBFE-DE8E2D09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62A-BA58-4187-B0F0-F709CAA5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E3CD-C9B5-4028-8638-5EEA6E41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0D3E-8D4D-46AA-B296-862A9F8E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F523-1DF6-430F-9FB5-60A8A2AD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C9C4-B08A-4461-8B8B-FB28F576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76D5-9D79-4137-B6C6-27878F8A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22860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918E-332D-46C9-A367-FC0641EE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D95B-98A1-4298-81FD-F10B937A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552-1F96-4E6A-84D7-8619DE51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429D-0FB5-4AF6-BA4C-A9E4DE8E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63A5-2703-4E9F-AF43-EE7ABA19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458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9F7D-4A64-49D6-B791-10FFAE53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627F-282D-4B00-BCC5-B63BF8BD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1430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3745800"/>
            <a:ext cx="23799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C001-6A16-4F52-BD65-6DD58CE5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4D9D-4CA6-4815-8C80-AB6A5E28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8CE-FD37-40FF-97A5-4B70F19A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FB5-BC2F-4C10-81D3-AD687EB7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22860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DBC-0A6B-4B03-844B-062444B7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711-072B-4808-8120-58AE8217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37458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A9E-2E16-4660-BD3A-BE254C17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143000"/>
            <a:ext cx="36068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45800"/>
            <a:ext cx="7391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6A20-F14F-47D7-BF64-BBDE138C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6736-1F52-4317-8958-6E0E9DD7F0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1143000"/>
            <a:ext cx="7391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80520" y="6781680"/>
            <a:ext cx="21337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781680"/>
            <a:ext cx="289584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70536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978D-39D3-414E-B395-0BD960E431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Our Christmas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209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 our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ur Christmas serv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73915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2:11:19Z</dcterms:created>
  <dc:creator>Michael</dc:creator>
  <dc:description/>
  <dc:language>en-US</dc:language>
  <cp:lastModifiedBy>Michael</cp:lastModifiedBy>
  <dcterms:modified xsi:type="dcterms:W3CDTF">2010-12-03T12:12:05Z</dcterms:modified>
  <cp:revision>1</cp:revision>
  <dc:subject/>
  <dc:title>Our Christmas service</dc:title>
</cp:coreProperties>
</file>