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57CA-907E-40DB-91C0-598DBF0E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E91B-EBDA-4DD9-BE7B-09FD3F9E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BFF5-48FA-419A-A2D0-FAAB1C49E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DA4D-6BDE-448B-9DF9-D0C0F61B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C423-3814-4A6D-B46D-015C3FCE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D07D-5CC2-49DD-BF93-47CD2C9B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178F-F28E-4761-85CA-8FBBE5CD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81A7-329D-4BCA-B00C-3535306F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16ED-67F2-47AB-8E9E-D0D23354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B1EE-7DB8-4E63-8107-F79EB50D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1CF8-83DB-4BCD-BEAA-5165D1E2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1059-F97B-4B0D-853A-EF9D8397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2BC9-0198-4F22-98FA-598D3FAF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5600-F26F-4F50-8F5E-BAF93321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3A1F-198F-49AA-B3C1-5B9116BC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872C-14DE-4C6C-A37B-673A4A38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CB75-5301-40FB-8B72-CBC73BD9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8848-73D2-447D-994E-DA112BCE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112A-C636-480B-88DA-B5146D72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C9FD-A478-40AD-BE91-579F53A2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9288-DF33-4DED-903C-507A9D2B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E239-41AF-4B1D-92DF-24F1300C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5D70-D896-4C15-915C-E7B8AEF7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1017-0FE9-4A18-B195-38833FC4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a05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24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1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24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33FB-F98A-47F5-812D-0284A65368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a05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24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241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24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26D5-954E-4DC6-9A19-71B9EA1CA83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9440" y="152280"/>
            <a:ext cx="8454960" cy="105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eba05a"/>
                </a:solidFill>
                <a:latin typeface="Arial"/>
              </a:rPr>
              <a:t>Our Christmas service</a:t>
            </a:r>
            <a:endParaRPr b="1" lang="en-US" sz="46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6520" y="1208160"/>
            <a:ext cx="640080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t our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ba05a"/>
                </a:solidFill>
                <a:latin typeface="Arial"/>
              </a:rPr>
              <a:t>Our Christmas service</a:t>
            </a: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752120"/>
            <a:ext cx="822960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1:58:21Z</dcterms:created>
  <dc:creator>Michael</dc:creator>
  <dc:description/>
  <dc:language>en-US</dc:language>
  <cp:lastModifiedBy>Michael</cp:lastModifiedBy>
  <dcterms:modified xsi:type="dcterms:W3CDTF">2010-12-03T12:14:43Z</dcterms:modified>
  <cp:revision>8</cp:revision>
  <dc:subject/>
  <dc:title>Our Christmas service</dc:title>
</cp:coreProperties>
</file>