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C645-6078-463F-B233-E0AC2CD0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1007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0AAE-E44B-42D1-9528-85EA2BAA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1007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1007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08A-2D5D-4E2E-8123-013B00D7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7521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7521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1007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1007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1007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021A-F755-4820-AF65-8436EDBC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0F68-2B7E-46B6-ABB7-EE0F2A89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A4FB-AC0F-4C86-BD58-70BC2348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E812-BE8B-45EA-AE70-F135F330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30BD-255B-4D41-902D-ED0135C5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A2D4-B454-4648-A34F-1104D356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7086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4E87-139A-452D-965B-0198F018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41007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F347-9158-4627-8059-5F19760C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7D2D-22F8-4255-9E78-2EED9706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41007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1036-D63C-4203-982C-68F71799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41007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5E97-36AD-4E5D-9B95-5D4B9EC1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41007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F4D8-52F7-4E63-8FFA-84EEC7E3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41007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41007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F141-08F0-42CF-A9C4-1422F0C3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7521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7521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41007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41007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41007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89CD-4E36-47E8-988F-EC6B073F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842A-53EE-44E3-AE2A-24216D0F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F87C-2270-4A62-8E49-1A331CD3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2FD9-F3F7-40AB-9293-0246D8DE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7086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9589-0019-4896-A421-AA4134D3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1007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E5E-81D8-416C-A98A-422C7203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1007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420-A94B-47DA-A9E2-22D64E9A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7521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007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567A-1853-4536-AB4B-E5A007EE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400800"/>
            <a:ext cx="2362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40080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29040" y="6400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3822-CB69-4865-9FC0-F3ED8FC61A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17521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35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77120" y="655272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E5DF-01D9-418C-909B-F5F0310B2D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53341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ur Christmas servi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6019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ou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ur Christmas servi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0880" y="1752120"/>
            <a:ext cx="83822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1:58:21Z</dcterms:created>
  <dc:creator>Michael</dc:creator>
  <dc:description/>
  <dc:language>en-US</dc:language>
  <cp:lastModifiedBy>Michael</cp:lastModifiedBy>
  <dcterms:modified xsi:type="dcterms:W3CDTF">2010-12-03T12:12:54Z</dcterms:modified>
  <cp:revision>3</cp:revision>
  <dc:subject/>
  <dc:title>Our Christmas service</dc:title>
</cp:coreProperties>
</file>