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8CB-B040-40ED-ADCB-F31BE241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8C3-F54A-43FE-B327-568E0CCD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F60-63DF-422A-82D5-040B22A0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738-510E-4EAC-8C98-640246E2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6271-A119-4FA0-9E4F-7215F633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CF04-F5D8-4C80-89A5-0636C787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569D-60F4-4890-8E13-ADFD9510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0B95-4C73-4467-8090-4D218040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2029-AF42-4D4D-9DE0-6275CF64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5FFC-FF69-47E2-A645-0DEA4974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242C-F702-49E7-AD48-2D44E7FB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368-BBD6-4B2A-AF57-9ED70730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059E-9873-49FC-9E60-7D59996D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7C53-70C8-4973-9A7F-3322421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FFCE-DAE1-4E01-BC8B-814CC793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ADB7-07FD-4683-881F-19E4FB57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12A9-7E37-4071-A324-DDF84FF6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87C-FD87-4D76-84B7-1E94BC88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A16-437A-4F4B-A1C6-C8189B79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A48-96E4-49BC-9711-F61CD6E8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C48-55FA-4FB9-9A38-EE8EE0F2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CF5-52E7-4998-838F-535F7C6E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ED1-919B-4C30-840C-180A3BE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F58-BAE0-4595-92EC-668DA61B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210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EB3A-C366-4040-A53C-7B76E27B8F3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160" y="6477120"/>
            <a:ext cx="2361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3048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62904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48F2-DB09-4E32-AEF0-4E496AFD31C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914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3:43Z</dcterms:modified>
  <cp:revision>5</cp:revision>
  <dc:subject/>
  <dc:title>Our Christmas service</dc:title>
</cp:coreProperties>
</file>