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7B03-D96F-4597-B929-69603306F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921A-7DBF-4913-8E29-8528CFF8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536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3E8D-BEFE-4065-BF91-A9DBE6259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4080" y="395856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600" y="395856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AC94-E864-49F7-BA88-1D087183D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7520-08FA-4827-931B-9EBAD5E7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176C-96CE-4EF7-9402-8CA80FA4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9134-ED3C-4CF9-8AEA-F0B49871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4709-4FAB-4372-A06C-DF7D9235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1198-8FAA-4E5B-AA6C-0EB34F07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153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0D0C-CC6A-43AB-ACC7-328EAFA9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CE90-4B48-4840-A804-4F97CFA1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B718-8946-4026-BF34-6B4A61BB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536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A0BE-C4C8-4B06-84F5-C7EB4DC0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75FA-CE33-4E29-99EE-D4CE8660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5638-9C0A-41B0-B7E3-8395DB35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536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05DA-0274-4E40-A1A5-090D665E3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4080" y="395856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0600" y="3958560"/>
            <a:ext cx="2625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130F-FCE6-4580-B2C6-F0693F3A2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B29A-7D21-487D-9CA1-1E393D17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1256-E2D6-4475-B4B8-AF7CFAE5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5CDE-6BF7-4A8A-9F59-BEAB2285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153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01A3-7A3A-4D12-9FF8-1F4C125D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3402-B6E1-4CD1-BB4F-434F2D36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5360" y="395856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76D2-1936-4CD5-A90E-F0EEC7DD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0925-9C03-4D5B-BE74-4C209EED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6559-9997-42C4-A7C5-F6E6C0D0F4F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3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6128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0C72-2EB4-4D47-B4B7-CEE4B12008E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33"/>
                </a:solidFill>
                <a:latin typeface="Arial"/>
              </a:rPr>
              <a:t>Our Christmas service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38080" y="990360"/>
            <a:ext cx="60962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t our 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33"/>
                </a:solidFill>
                <a:latin typeface="Arial"/>
              </a:rPr>
              <a:t>Our Christmas service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153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1:58:21Z</dcterms:created>
  <dc:creator>Michael</dc:creator>
  <dc:description/>
  <dc:language>en-US</dc:language>
  <cp:lastModifiedBy>Michael</cp:lastModifiedBy>
  <dcterms:modified xsi:type="dcterms:W3CDTF">2010-12-03T12:14:04Z</dcterms:modified>
  <cp:revision>6</cp:revision>
  <dc:subject/>
  <dc:title>Our Christmas service</dc:title>
</cp:coreProperties>
</file>