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D38B-B546-4E68-91D3-ADBEE6AA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108-258D-48EA-BE0C-1FDCE7BB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B18-B5DB-4311-A1DD-F61CD492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110-35DA-4310-8175-16A6D3FF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D7BB-CDE9-4DCE-ADE8-1D1D0E0C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7F4A-92B8-414B-9F4E-3F035021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0CC6-961F-429A-844A-CC6D8BB7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34C0-F863-4089-B4F6-B6699166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AB27-F430-42A1-9C3F-766EE32C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84EE-69B9-4210-9EEC-3E2FE788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651E-B5A3-4AD9-9E94-94F5749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8D6-DC95-4AEB-84F4-9338D9E0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89D0-66E1-44B9-9508-B45FC061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CDE9-BF44-47C4-8D93-69DBC321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AA57-A97F-4FCE-83AE-A7D065D3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0097-BEDC-45D0-A311-E239A223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1E49-5B91-4463-B863-872ED1B6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AA3-09E7-4605-8071-F2725CD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1C3-F5A2-48F1-8591-7FC32033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EAC-C7F5-43D8-8F87-D11EC473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F1B-8E82-4AC3-B7C0-C5B4ABE9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74A-C680-4782-80E0-A9947F9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F95-B7BC-4227-90F1-9D819C93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4B5-892F-46CE-B535-0A6BFF15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a05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1E7D-DA9B-454F-AFF4-EF7705B55C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a05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0119-F47A-40BE-A160-616C5DE6A31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152280"/>
            <a:ext cx="8454960" cy="105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eba05a"/>
                </a:solidFill>
                <a:latin typeface="Arial"/>
              </a:rPr>
              <a:t>Our Christmas service</a:t>
            </a:r>
            <a:endParaRPr b="1" lang="en-US" sz="4600" spc="-1" strike="noStrike">
              <a:solidFill>
                <a:srgbClr val="eba05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6520" y="1208160"/>
            <a:ext cx="64008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ba05a"/>
                </a:solidFill>
                <a:latin typeface="Arial"/>
              </a:rPr>
              <a:t>Our Christmas service</a:t>
            </a:r>
            <a:endParaRPr b="1" lang="en-US" sz="4000" spc="-1" strike="noStrike">
              <a:solidFill>
                <a:srgbClr val="eba05a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752120"/>
            <a:ext cx="82296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43Z</dcterms:modified>
  <cp:revision>8</cp:revision>
  <dc:subject/>
  <dc:title>Our Christmas service</dc:title>
</cp:coreProperties>
</file>