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C49-933A-49F2-B852-95C2911B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1AF-DE84-46AF-83E6-EC3C75E6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149-7D0E-425A-B0B8-4D3DC0C1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4E5-936D-43B5-B473-EB32495C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7E60-BA08-4565-B192-2A235B13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0C06-2441-4D31-AA74-4863B9EC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A209-983B-4884-9EA0-6ABFF527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5F92-85E9-46C8-8003-BA95BF8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3022-4DD7-4CF6-A162-E48CCA0E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24B1-05F1-45F1-8564-5ADFC9A3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4A9F-2EB5-4F92-8145-42E84E1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B25-FAA1-4378-9A46-490A996A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105B-E391-4171-BA10-AAE722B3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F949-A9A1-4AA7-A1E1-D03756FF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7F9C-5C7E-4403-AC8C-E3DDDA35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5E51-84D1-4771-A541-319DAA5E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22FE-E82D-44D3-9C16-EF310E2F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F5A-52A3-40F0-BDCB-96379431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48C-E781-4F90-A9BB-662FB43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7AE-D9A8-42E2-88AD-6A01EA97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DD1-28AE-42A0-A88B-8BA15B2E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68D-3797-4EDA-8438-8F2E0447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32E-F3C8-4672-84DA-CE522E0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D2D-1E70-4A27-BD22-6B83B108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80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4008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04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4634-4C7B-4861-8E8D-ECF731B32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ADE8-E1AD-4EDD-A397-363364890C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5334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752120"/>
            <a:ext cx="83822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2:54Z</dcterms:modified>
  <cp:revision>3</cp:revision>
  <dc:subject/>
  <dc:title>Our Christmas service</dc:title>
</cp:coreProperties>
</file>